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3D0-7669-446D-833A-12AEC0AB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332-6842-43DE-A853-F159FCAC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EE9A-539F-4462-A48B-67797865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52A-B7EE-4695-A2DA-D8E1DC36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C044-9A35-4630-9CEF-D3272A21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B980-3B0C-4641-A4C1-178D6D7A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FCD5-E38F-4328-8991-F9D2E294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2156-F852-4DE0-A706-6A677600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840D-F086-463D-BD91-972F834C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C400-5C32-4175-9890-708E5E92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F8A-E98E-49BF-A80B-6D92426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CF2-6FDA-476C-A979-3222A629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95E2-6E6E-4BBC-875C-817B2395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BFBB-140B-4E34-9E8F-E2925F1D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2518-1546-40EB-A1BF-077ACCE2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70BA-761B-47F1-AA6F-C70CACBB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DA7C-6DA9-421F-AEBB-0967801A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318D7-7B44-4713-B7CB-EFF7DC73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F8B3CB-C6A3-414E-9EB0-CBEFBD5D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B21EE6-4EF2-4770-8F24-F041E794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D1B1A-CF67-4D92-A462-F93A7A93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4593F-677A-48D6-86C5-81CC4A2A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EA4-024E-4E32-9354-FC74A50E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2856C-292A-486C-9A2A-2CD41793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B0926-88F0-4EE2-AB09-A298B926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A190C-22D9-4680-B8D6-76F963D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D8379-F685-46E4-BC5A-D7E3405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5AE36-046C-4C54-BCA3-CF2DDFAF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AA00D-CE5B-4AAD-8003-DAE482F1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C1EF8-05DD-4532-AC7E-AE4D5CCE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97E4-B4CD-4E4D-977E-E546FBE8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8AE66-1F83-4AC3-8B7E-AA45A67F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4D0D2-B742-4756-B18C-CF85F376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1E2-604F-49D6-A44C-F6FE6222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B637-19A2-4664-8565-684E0F11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8CEE-FCA9-4668-BBD4-CC19D6A6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0427-9CF1-427C-A189-6F9FF322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84BBB-484B-43D0-960E-58E81A66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4E5D-7FD9-476F-829F-A339133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24D9-9B00-4EF7-84D8-E21E1F6B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D2E2-8815-46C1-803E-0EE31F9C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2AF5-78E2-4F71-9184-8442C8D2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18B7-2B2D-4BE5-923E-1147A0D7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5D286-BECB-4B0D-91F9-FEB979CD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286-3848-46FA-94EB-08E2FEAB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D8CD5-12E4-44E3-A928-3E9C7C3E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F05B7-95AF-42D4-A071-AE845BF7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9B7A3-BD65-47BF-A0B8-A804141A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E00FA2-3A76-49BA-893F-6319BAA4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787C3-5375-4DC3-8EA9-A546789B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39ABA-22BC-482D-A3D4-E3051570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5CF611-D0D9-4EAC-8665-D891855A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E5A2C-09CA-4875-87C9-5DF8BD0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488CB-05B8-48B8-8282-F5306E17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8826B5-7E10-4C30-9F59-3060584B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196-CE32-41D3-AFDE-16314B58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720C69-D49D-4F7E-9762-E2959CF0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D58FE9-D94F-4E60-9822-BF1A0C75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8AA8D-F28B-40B9-85B4-3B4D470B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8C8DA-884C-450E-AB1F-7CDA8BC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F6A5E-2075-4040-86E9-3C013B84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427C7-4387-4D33-A444-8DCCDFBD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F8EDD5-D045-49FB-8049-D4163B94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D8531-9916-421B-BE52-4848E08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3B728C-6333-4899-98DA-E0963E7E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D8A291-07C9-4C37-AF5C-CA9125C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8F7-BD0C-43FB-86D9-A4C1E7E5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3CEF9-1E19-41EA-8F99-1FFD3B1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FB0A6-A437-415D-8C5B-CADCCBF5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F5000D-3698-4C52-A6D6-39EAEA2C6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F25542-78CE-4117-800D-D7456865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A7F9D-E695-4B85-942B-1B2A2E2C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9CA8D-0F55-42C0-A1C1-A71D4D2F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982FE-EFDB-4C31-AAC9-5FB07004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E68D0-C708-4858-8B41-A07D189E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B1E6E-0871-479C-8A4C-7CF5349D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082ED-3943-4ED8-A3BD-264BAB4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AD2-31E4-4F53-ABA4-3B2FC84D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BBE74-8E1B-4A26-8E9C-9629844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7D750-C638-45C1-AD85-899D869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78FCD6-04BA-4F74-9A32-E162BA12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34A32-469B-480A-8D93-105B7201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FA01BD-777B-441F-8B09-6F6137EE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8D4-9BC9-40F6-80E1-AF6BC3BD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F557-0556-4CA7-90A6-0A244559A04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85E4-4A0C-4F3D-A374-7D1F295707E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7C14-3340-4164-9850-43A27DAAF8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E662-D706-4283-8FF9-4A059FCC273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5BE1-477D-44F3-85D2-3E21B4EB88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0CFE-5107-437C-9FDB-AB5130A058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F76-AFC1-494E-8164-2F36D89DC72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p.yimg.com/ca/I/blaircandy_2073_58700389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8cfc8"/>
                </a:solidFill>
                <a:latin typeface="Goudy Stout"/>
              </a:rPr>
              <a:t>BIGGEST</a:t>
            </a:r>
            <a:r>
              <a:rPr b="1" lang="en-US" sz="3000" spc="-1" strike="noStrike">
                <a:solidFill>
                  <a:srgbClr val="f8cfc8"/>
                </a:solidFill>
                <a:latin typeface="Goudy Stout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 Black"/>
              </a:rPr>
              <a:t>Cameron Hartley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Rectangle 3" descr=""/>
          <p:cNvPicPr/>
          <p:nvPr/>
        </p:nvPicPr>
        <p:blipFill>
          <a:blip r:embed="rId1"/>
          <a:stretch/>
        </p:blipFill>
        <p:spPr>
          <a:xfrm>
            <a:off x="3213000" y="2255760"/>
            <a:ext cx="3200400" cy="1193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cam.JPG"/>
          <p:cNvPicPr/>
          <p:nvPr/>
        </p:nvPicPr>
        <p:blipFill>
          <a:blip r:embed="rId2"/>
          <a:stretch/>
        </p:blipFill>
        <p:spPr>
          <a:xfrm>
            <a:off x="5334120" y="4419720"/>
            <a:ext cx="2336760" cy="1752480"/>
          </a:xfrm>
          <a:prstGeom prst="rect">
            <a:avLst/>
          </a:prstGeom>
          <a:ln w="9360">
            <a:solidFill>
              <a:srgbClr val="7598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RESEARCH QUES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Bubble gum blows the biggest bubble?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HYPOTHE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think Bubblicious is going to blow the biggest  bubble because it is a bigger piece and is sof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ERI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used three kinds of bubble gum. They are Bazooka, Trident and Bubbliciou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CEDUR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chewed a piece of each brand of bubble gum and blew four bubbles and measured the bubbles to see which brand blows the biggest bubbl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measured the bubbles by using a string and wrapping it around the bubble to measure the circumference.  I then measured the string in inches using a measuring tap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 took the four bubbles from each brand and added the size and divided the number by four to get an average size for each bran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COL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62120" y="1828800"/>
          <a:ext cx="7772400" cy="290844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ubblelic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id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Bazoo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0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7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0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5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25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vg=6.1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vg=5.4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vg=4.6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COLL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LTS AND CONCLUS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bbalicous was the biggest its avg is 6.10 and tridents is 5.40 and Bazookas is 4.6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BUBBLICIOUS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Content Placeholder 3" descr="cam.JPG"/>
          <p:cNvPicPr/>
          <p:nvPr/>
        </p:nvPicPr>
        <p:blipFill>
          <a:blip r:embed="rId1"/>
          <a:stretch/>
        </p:blipFill>
        <p:spPr>
          <a:xfrm>
            <a:off x="4191120" y="3048120"/>
            <a:ext cx="4087800" cy="3276360"/>
          </a:xfrm>
          <a:prstGeom prst="rect">
            <a:avLst/>
          </a:prstGeom>
          <a:ln w="9360">
            <a:solidFill>
              <a:srgbClr val="000000">
                <a:alpha val="59000"/>
              </a:srgbClr>
            </a:solidFill>
            <a:miter/>
          </a:ln>
        </p:spPr>
      </p:pic>
      <p:pic>
        <p:nvPicPr>
          <p:cNvPr id="371" name="Picture 2" descr="Bubblicious Bubble Gum 18c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600200"/>
            <a:ext cx="374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21:41:53Z</dcterms:created>
  <dc:creator>BPS</dc:creator>
  <dc:description/>
  <dc:language>en-US</dc:language>
  <cp:lastModifiedBy>BPS</cp:lastModifiedBy>
  <dcterms:modified xsi:type="dcterms:W3CDTF">2009-11-25T19:19:59Z</dcterms:modified>
  <cp:revision>20</cp:revision>
  <dc:subject/>
  <dc:title>Biggest Bubble</dc:title>
</cp:coreProperties>
</file>